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999-EEB5-4603-8FE2-BC24D0E3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98B5-F3C4-4AE3-B7A2-9C2B3014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0DD-1738-40F8-9286-6330C720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BAD-1585-4492-BEFB-5F339352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6459-3A83-43B3-8E37-D68C229E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97A4-B404-4CA7-862C-2FE9C2F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2C73-D51E-41DE-9CD2-ADC39444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4AF3-3C24-4432-8D22-F9A62E4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BAB-1DAD-4B0D-9376-18FCCF9A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F159-1A7A-4CE8-A57C-BCEFF1B7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B3D8-D3B9-4CFD-B53C-E5D34E2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5BA-0FB4-4029-BC7D-A3C97491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480C-1FF7-4ECD-99D7-DC4CF6C6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680F-5EC8-47FD-BDE2-3329609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2EEE-765E-4343-90C4-1F59C459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AD4-C4BD-4A4F-A42E-2D568395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7E5C-7F1E-4D65-B465-1F632BA2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618-CCFB-49B8-9723-F7925B8A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671-04CA-489C-B47B-EE80477A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1E9-988B-45F1-864D-E8F3E183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C76-03B1-4658-9C4F-9F8AF3F2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DF7-B40A-4A63-BA49-7B69786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97A-DE9C-4565-AC01-A2A32BE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7ED-EE99-4063-9324-66AB124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1D0-2AD6-4970-93E1-33BAE02B17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AF6D-BD37-4594-8715-5B29E304ED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3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s sorties peuvent s’inscrire dans les programmes de collège sur le niveau 5</a:t>
            </a:r>
            <a:r>
              <a:rPr b="1" lang="fr-FR" sz="1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4"/>
          <p:cNvSpPr/>
          <p:nvPr/>
        </p:nvSpPr>
        <p:spPr>
          <a:xfrm>
            <a:off x="0" y="6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30073"/>
                </a:solidFill>
                <a:latin typeface="Arial"/>
              </a:rPr>
              <a:t>Géologie externe: évolution des pay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1413000"/>
          <a:ext cx="8569440" cy="5259240"/>
        </p:xfrm>
        <a:graphic>
          <a:graphicData uri="http://schemas.openxmlformats.org/drawingml/2006/table">
            <a:tbl>
              <a:tblPr/>
              <a:tblGrid>
                <a:gridCol w="2736720"/>
                <a:gridCol w="3095640"/>
                <a:gridCol w="273708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naiss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500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pacités et attitu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500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mment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500e5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’Homme prélève dans son environn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éologique les matériaux qui lui s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écessaires et prend en compte 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onséquences de son action sur le paysag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server, recenser et organiser des informations pour identifier les élé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gnificatifs du modelé dans un paysage loc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bserver, recenser et organiser des informations afin de comprendre la nécess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’exploitation de matériaux géologiques et de percevoir les effets de cette exploitation 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’environn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a géologie étant une science de terrain,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’appuie sur un exemple local, à part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’observations de terra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hèmes de convergence 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éveloppement durable,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c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115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es sorties s’inscrivent aussi  dans les programmes du lycé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Thème 2 - Enjeux planétaires contempo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981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hème 2 -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ctonique des plaques et géologie appliquée </a:t>
            </a:r>
            <a:r>
              <a:rPr b="1" lang="fr-FR" sz="24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0" y="3141720"/>
            <a:ext cx="9144000" cy="21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6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re 1" descr=""/>
          <p:cNvPicPr/>
          <p:nvPr/>
        </p:nvPicPr>
        <p:blipFill>
          <a:blip r:embed="rId2"/>
          <a:stretch/>
        </p:blipFill>
        <p:spPr>
          <a:xfrm>
            <a:off x="646200" y="1365120"/>
            <a:ext cx="8521560" cy="187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0" y="342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30073"/>
                </a:solidFill>
                <a:latin typeface="Arial"/>
                <a:ea typeface="Calibri"/>
              </a:rPr>
              <a:t>Probléma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30073"/>
                </a:solidFill>
                <a:latin typeface="Arial"/>
                <a:ea typeface="Calibri"/>
              </a:rPr>
              <a:t>Comment les affleurements et les paysages montrent-ils des traces de la tectonique à l’échelle locale 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0" y="27813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répondre à cette problématique, la sortie s’organise de la façon suiva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. En amont de la sortie, une séance en 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. La sortie sur le terrain une jour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 Le compte-rendu avec l’utilisation de Qgis en TP ou en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ZoneTexte 2"/>
          <p:cNvSpPr/>
          <p:nvPr/>
        </p:nvSpPr>
        <p:spPr>
          <a:xfrm>
            <a:off x="0" y="40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carrière de sable  en exploitation: Mont du Gâ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D:\Cours Lycée\sortie pays de bray\Photos Pays de Bray\Roncherolles1.JPG"/>
          <p:cNvPicPr/>
          <p:nvPr/>
        </p:nvPicPr>
        <p:blipFill>
          <a:blip r:embed="rId1"/>
          <a:stretch/>
        </p:blipFill>
        <p:spPr>
          <a:xfrm>
            <a:off x="611280" y="836640"/>
            <a:ext cx="3240000" cy="182232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ur le terrain, la sortie se compose de 3 arrê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565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. Un paysage à la Ferté Saint Sam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D:\Cours Lycée\sortie pays de bray\Photos Pays de Bray\La Ferte3.JPG"/>
          <p:cNvPicPr/>
          <p:nvPr/>
        </p:nvPicPr>
        <p:blipFill>
          <a:blip r:embed="rId2"/>
          <a:stretch/>
        </p:blipFill>
        <p:spPr>
          <a:xfrm>
            <a:off x="826920" y="3068640"/>
            <a:ext cx="3457800" cy="1944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0" y="5013360"/>
            <a:ext cx="55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3. Une autre carrière non exploitée : Grumesn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5508720" y="3500280"/>
            <a:ext cx="3429000" cy="3152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5148360" y="2062080"/>
            <a:ext cx="3311280" cy="1085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3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30073"/>
                </a:solidFill>
                <a:latin typeface="Calibri"/>
              </a:rPr>
              <a:t>Intégration du logiciel QGis dans la  démarche d’investi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:\formaterre\Formaterre 2013\Coucheset projetsortieQGis\TableattributMontdugat.jpg"/>
          <p:cNvPicPr/>
          <p:nvPr/>
        </p:nvPicPr>
        <p:blipFill>
          <a:blip r:embed="rId1"/>
          <a:stretch/>
        </p:blipFill>
        <p:spPr>
          <a:xfrm>
            <a:off x="4500720" y="3789360"/>
            <a:ext cx="4290840" cy="291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:\formaterre\Formaterre 2013\Coucheset projetsortieQGis\compterenduQgis.jpg"/>
          <p:cNvPicPr/>
          <p:nvPr/>
        </p:nvPicPr>
        <p:blipFill>
          <a:blip r:embed="rId2"/>
          <a:stretch/>
        </p:blipFill>
        <p:spPr>
          <a:xfrm>
            <a:off x="324000" y="1052640"/>
            <a:ext cx="6696000" cy="26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1782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l" pos="6294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Prob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é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matique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 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: Utiliser 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’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observation des monuments Rouennais pour aborder 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’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exploitation par l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’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Homme des ressources g</a:t>
            </a:r>
            <a:r>
              <a:rPr b="1" lang="fr-FR" sz="2800" spc="-1" strike="noStrike">
                <a:solidFill>
                  <a:srgbClr val="730073"/>
                </a:solidFill>
                <a:latin typeface="Arial"/>
                <a:ea typeface="ヒラギノ角ゴ Pro W3"/>
              </a:rPr>
              <a:t>é</a:t>
            </a:r>
            <a:r>
              <a:rPr b="1" lang="fr-FR" sz="2800" spc="-1" strike="noStrike">
                <a:solidFill>
                  <a:srgbClr val="730073"/>
                </a:solidFill>
                <a:latin typeface="Times New Roman Bold"/>
                <a:ea typeface="ヒラギノ角ゴ Pro W3"/>
              </a:rPr>
              <a:t>ologique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324000" y="404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30073"/>
                </a:solidFill>
                <a:latin typeface="Calibri"/>
              </a:rPr>
              <a:t>Intégration du logiciel QGis dans la  démarche d’investi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16840" cy="430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14:50:33Z</dcterms:created>
  <dc:creator>Carole</dc:creator>
  <dc:description/>
  <dc:language>en-US</dc:language>
  <cp:lastModifiedBy>Carole</cp:lastModifiedBy>
  <dcterms:modified xsi:type="dcterms:W3CDTF">2013-11-13T11:04:11Z</dcterms:modified>
  <cp:revision>58</cp:revision>
  <dc:subject/>
  <dc:title>Sortie  dans le Pays de Bray</dc:title>
</cp:coreProperties>
</file>